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C87C-F1B0-4258-9969-D216A8404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1069-B72C-4605-8CEA-02E26802F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077-3AF4-4E45-80E7-C5FA283F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65F-4E5E-4969-A8A0-86497253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25AB-50A1-436A-B293-A251CAC8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35B9-3BAA-4087-AA6F-03D53C91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38FE-603F-4367-8826-E2F85751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3FAC-47AE-4842-ACC8-DAD12A10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D59D-84BB-48D1-AD55-CA041343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C486-FCC9-4AB5-B524-C1B5BA37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C3A-E610-4444-8EBF-0C02251C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FE6C-EEEE-4CED-A988-9B92CE44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A617-4D8C-496E-96C6-294DCBF9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AE06-E1F9-4426-B442-A02D9394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473E-07DB-48A1-B3CC-C21149C92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38400"/>
            <a:ext cx="7772400" cy="1470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схрана у трудноћи и лактацији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44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оф.др Биљана Вулет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16192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Гвожђе у трудноћ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88712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већане су потребе за 50 %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руднице ретко улазе у трудноћу са нормалним статусом гвожђ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некад је потребна </a:t>
            </a:r>
            <a:r>
              <a:rPr b="0" lang="sr-RS" sz="2800" spc="-1" strike="noStrike">
                <a:solidFill>
                  <a:srgbClr val="ff0000"/>
                </a:solidFill>
                <a:latin typeface="Calibri"/>
              </a:rPr>
              <a:t>суплементација са 30 до 60 мг дневн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едности доброг статуса гвожђа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еца се рађају са бољом Т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мају бољу оцену на рођењ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мање су компликације у току порођај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Значај Фолне киселине у трудноћ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55640" y="2104560"/>
            <a:ext cx="7786800" cy="31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уплемантација у првим недељама трудноће превенира појаву </a:t>
            </a:r>
            <a:r>
              <a:rPr b="0" i="1" lang="en-US" sz="2800" spc="-1" strike="noStrike">
                <a:solidFill>
                  <a:srgbClr val="ff0000"/>
                </a:solidFill>
                <a:latin typeface="Calibri"/>
              </a:rPr>
              <a:t>anencefalusa i spine bif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чествује у ћелијском метаболизму ,синтезу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DNК , RN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достатак доводи до абрупције постељице , повишен притисак , претећу еклампс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Значај Фолне киселине у трудноћ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78920" y="2176560"/>
            <a:ext cx="852012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зима се </a:t>
            </a:r>
            <a:r>
              <a:rPr b="0" lang="sr-RS" sz="2800" spc="-1" strike="noStrike">
                <a:solidFill>
                  <a:srgbClr val="ff0000"/>
                </a:solidFill>
                <a:latin typeface="Calibri"/>
              </a:rPr>
              <a:t>у дози од 0,4 мг дневн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зима се </a:t>
            </a:r>
            <a:r>
              <a:rPr b="0" lang="sr-RS" sz="2800" spc="-1" strike="noStrike">
                <a:solidFill>
                  <a:srgbClr val="ff0000"/>
                </a:solidFill>
                <a:latin typeface="Calibri"/>
              </a:rPr>
              <a:t>током целе трудноће,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арочито корисна до </a:t>
            </a:r>
            <a:r>
              <a:rPr b="0" lang="sr-RS" sz="2800" spc="-1" strike="noStrike">
                <a:solidFill>
                  <a:srgbClr val="ff0000"/>
                </a:solidFill>
                <a:latin typeface="Calibri"/>
              </a:rPr>
              <a:t>краја 12 недељ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У </a:t>
            </a:r>
            <a:r>
              <a:rPr b="0" lang="sr-RS" sz="2800" spc="-1" strike="noStrike">
                <a:solidFill>
                  <a:srgbClr val="ff0000"/>
                </a:solidFill>
                <a:latin typeface="Calibri"/>
              </a:rPr>
              <a:t>случају  болести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руднице ( епилеспија , терапија антиепилептицима ) у претходној трундоћи рођено дете са дефектом кичменог стуба , почињу терапију од 4 мг дневно и </a:t>
            </a:r>
            <a:r>
              <a:rPr b="0" lang="sr-RS" sz="2800" spc="-1" strike="noStrike">
                <a:solidFill>
                  <a:srgbClr val="ff0000"/>
                </a:solidFill>
                <a:latin typeface="Calibri"/>
              </a:rPr>
              <a:t>пре планиране трудноће </a:t>
            </a:r>
            <a:br>
              <a:rPr sz="2800"/>
            </a:br>
            <a:r>
              <a:rPr b="0" lang="vi-V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Значај калцијума  и фосфора у трудноћи и лактацији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6560" y="2607840"/>
            <a:ext cx="785988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требе су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000 mg Ca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а да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звор – млечни производи и зелено лиснато поврћ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а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фосфо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е постоје посебне препору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Цинк није неопходно суплементира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Значај Јода, Mg, 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755280" y="2463480"/>
            <a:ext cx="7931160" cy="26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аветује се коришћење јодиране со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еће количине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ј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ису потребн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агнезијум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превенира превремени порођај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презно са уносом соли- повећан унос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натрију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може дати компликациј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777708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Значај витамина групе Б и витамина  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11280" y="2176560"/>
            <a:ext cx="807552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Витамин </a:t>
            </a:r>
            <a:r>
              <a:rPr b="0" lang="vi-V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vi-VN" sz="2800" spc="-1" strike="noStrike">
                <a:solidFill>
                  <a:srgbClr val="ff0000"/>
                </a:solidFill>
                <a:latin typeface="Calibri"/>
              </a:rPr>
              <a:t>B12 </a:t>
            </a:r>
            <a:r>
              <a:rPr b="0" lang="vi-VN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регулише бројне биохемијске процесе у организму , неопходан је у трудноћи и периоду лактациј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Витамин Б6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гулише бројне неуролошке процесе у труноћи и лактациј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Витамин Ц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 суплементира 85 мг дневно  , извори у воћу углавном, и поврћу (паприк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Значај витамина Д и А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887120"/>
            <a:ext cx="822960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итамин Д  неопходан за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добру апсорпцију калцијум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за развој зуба и кост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епоручена днавна доза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600 и.ј. дневно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уплементима</a:t>
            </a:r>
            <a:r>
              <a:rPr b="1" i="1" lang="en-US" sz="2800" spc="-1" strike="noStrike">
                <a:solidFill>
                  <a:srgbClr val="ffffff"/>
                </a:solidFill>
                <a:latin typeface="Arial Narrow"/>
              </a:rPr>
              <a:t>In Institute of Medicine, </a:t>
            </a:r>
            <a:r>
              <a:rPr b="0" i="1" lang="en-US" sz="2800" spc="-1" strike="noStrike">
                <a:solidFill>
                  <a:srgbClr val="ffffff"/>
                </a:solidFill>
                <a:latin typeface="Arial Narrow"/>
              </a:rPr>
              <a:t>Food and Nut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Храна је недовољан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звор витамина Д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рганизам производи витамин  Д  довољним излагањем сунц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требе у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витамину 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е задовољавају исхраном која је богата воћем и поврће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Значај витамина B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246384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опходан за раст ћелија и развој ЦНС –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Спречава анемију труднице</a:t>
            </a:r>
            <a:r>
              <a:rPr b="0" lang="vi-VN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Препоручена доз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трудноћи износи 2,2 </a:t>
            </a:r>
            <a:r>
              <a:rPr b="0" lang="vi-VN" sz="2800" spc="-1" strike="noStrike">
                <a:solidFill>
                  <a:srgbClr val="000000"/>
                </a:solidFill>
                <a:latin typeface="Calibri"/>
              </a:rPr>
              <a:t>mc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Недостатак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12 се ретко јавља, има га довољно у намирницама регуларне исхр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изик представља вегетеријанска храна !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MI= телесна маса (kg)/висина (m)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13840" y="1557360"/>
            <a:ext cx="997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тање ухрањености </a:t>
            </a:r>
            <a:r>
              <a:rPr b="0" lang="sr-RS" sz="2800" spc="-1" strike="noStrike">
                <a:solidFill>
                  <a:srgbClr val="ff0000"/>
                </a:solidFill>
                <a:latin typeface="Calibri"/>
              </a:rPr>
              <a:t>пре трудноће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 препорука з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sr-RS" sz="2800" spc="-1" strike="noStrike">
                <a:solidFill>
                  <a:srgbClr val="ff0000"/>
                </a:solidFill>
                <a:latin typeface="Calibri"/>
              </a:rPr>
              <a:t>повећање ТМ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током трудноћ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тхрањеност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MI&lt;19.8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2.5 - 18 kg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ормална ТМ 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MI 19.8 do 25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.5 – 16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екомерна ТМ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MI 26 do 29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 - 11.5</a:t>
            </a:r>
            <a:r>
              <a:rPr b="0" lang="sr-Latn-RS" sz="2800" spc="-1" strike="noStrike">
                <a:solidFill>
                  <a:srgbClr val="000000"/>
                </a:solidFill>
                <a:latin typeface="Calibri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Calibri"/>
              </a:rPr>
              <a:t>Гојазност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MI&gt;29</a:t>
            </a:r>
            <a:r>
              <a:rPr b="0" lang="sr-Latn-RS" sz="28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sr-RS" sz="2800" spc="-1" strike="noStrike">
                <a:solidFill>
                  <a:srgbClr val="ff0000"/>
                </a:solidFill>
                <a:latin typeface="Calibri"/>
              </a:rPr>
              <a:t>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ax 7 k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Генералне препоруке за исхрану у трудноћ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752560"/>
            <a:ext cx="8229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еду разноврсну храну у умереним количин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М се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не сме повећати више од 12 кг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Редовна контрола ТМ и режима исхра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Суплементација гвожђем и фолном киселин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З  ИСТОРИЈЕ МЕДИЦИН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ипократ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800" spc="-1" strike="noStrike">
                <a:solidFill>
                  <a:srgbClr val="ff0000"/>
                </a:solidFill>
                <a:latin typeface="Calibri"/>
              </a:rPr>
              <a:t>и Аристотел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Calibri"/>
              </a:rPr>
              <a:t>Правилна исхрана труднице обезбеђује мање побачаја и превремених порођај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Исхрана труднице је опредељена културолошким, социјалним и религијским фактор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ожељан избог намирниц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9280" y="1600200"/>
            <a:ext cx="814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Хле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од црног или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интегралн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браш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Мед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ли јечмени сла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Цеђено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воћ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и биљни чаје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место грицкалица ораси, семенке бундеве, сунцокре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Со – морск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 јодир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Хладно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цеђено уљ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маслиново, кукуруз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Сир млад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смањени садржај млечне масти у свим ферментисаним производ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Уместо сухомеснатих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извода  барена риба, пилеће месо , уместо соли ароматично зачинско биљ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лкохолно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сирћ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заменити са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јабуковим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ли соком од лиму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РЕСТРИКТИВНЕ ДИЈЕТЕ ЗА ВРЕМЕ ДОЈЕЊ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1280" y="2895120"/>
            <a:ext cx="8075520" cy="21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Умере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г карактер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3 до 4 недеље од порођаја лактација је успоставље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Губитак ТМ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Tahoma"/>
              </a:rPr>
              <a:t>до 2 кг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месеч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СХРАНА ДОЈИЉ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2104560"/>
            <a:ext cx="814716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Calibri"/>
              </a:rPr>
              <a:t>Лагана храна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арочито првих дана после порођа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отребно </a:t>
            </a:r>
            <a:r>
              <a:rPr b="0" lang="sr-RS" sz="2800" spc="-1" strike="noStrike">
                <a:solidFill>
                  <a:srgbClr val="ff0000"/>
                </a:solidFill>
                <a:latin typeface="Calibri"/>
              </a:rPr>
              <a:t>5 обро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Calibri"/>
              </a:rPr>
              <a:t>После 3 дана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орманија исхра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Calibri"/>
              </a:rPr>
              <a:t>Унос 1 литра мле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бавезно је </a:t>
            </a:r>
            <a:r>
              <a:rPr b="0" lang="sr-RS" sz="2800" spc="-1" strike="noStrike">
                <a:solidFill>
                  <a:srgbClr val="ff0000"/>
                </a:solidFill>
                <a:latin typeface="Calibri"/>
              </a:rPr>
              <a:t>воће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, </a:t>
            </a:r>
            <a:r>
              <a:rPr b="0" lang="sr-RS" sz="2800" spc="-1" strike="noStrike">
                <a:solidFill>
                  <a:srgbClr val="ff0000"/>
                </a:solidFill>
                <a:latin typeface="Calibri"/>
              </a:rPr>
              <a:t>поврће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 , месо, риба, храна богата влакни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едлазе се </a:t>
            </a:r>
            <a:r>
              <a:rPr b="0" lang="sr-RS" sz="2800" spc="-1" strike="noStrike">
                <a:solidFill>
                  <a:srgbClr val="ff0000"/>
                </a:solidFill>
                <a:latin typeface="Calibri"/>
              </a:rPr>
              <a:t>2 сата шетње дневн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0000"/>
                </a:solidFill>
                <a:latin typeface="Calibri"/>
              </a:rPr>
              <a:t>Унос течности 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до 3 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СХРАНА ДОЈИЉ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2287080"/>
            <a:ext cx="8651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Секреција млек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гланом 850 м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лоријска вредност млека је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65-70kc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100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одаје се 500 кал дневно виш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Унос беланчевина повећати за </a:t>
            </a:r>
            <a:r>
              <a:rPr b="0" lang="hr-HR" sz="2800" spc="-1" strike="noStrike">
                <a:solidFill>
                  <a:srgbClr val="ff0000"/>
                </a:solidFill>
                <a:latin typeface="Calibri"/>
              </a:rPr>
              <a:t>11-13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потреба јодиране со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зељно је зелено поврће и интегрални хле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већана је потреба за витаминима Б12 ако је мајка вегетаријанац </a:t>
            </a: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2,6</a:t>
            </a:r>
            <a:r>
              <a:rPr b="0" lang="el-GR" sz="2800" spc="-1" strike="noStrike">
                <a:solidFill>
                  <a:srgbClr val="000000"/>
                </a:solidFill>
                <a:latin typeface="Calibri"/>
                <a:ea typeface="Tahoma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ahoma"/>
              </a:rPr>
              <a:t>g/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дн и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ahoma"/>
              </a:rPr>
              <a:t>Ca 60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ahoma"/>
              </a:rPr>
              <a:t>mg/dan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ahoma"/>
              </a:rPr>
              <a:t> витамин 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СХРАНА ДОЈИЉ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5 до 7 оброк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току да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Без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јаких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зачи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ко дете испољава дигестивне сметње искључити алергогене намирниц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ебан опрез са статусом гвожђа и калцију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абрана пушења и алкохол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абрана јаког парфимис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фа у умереним дозама не више од 2-3 шољиц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ЕГЛЕД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начај телесне масе труднице на почетку трудноћ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Програм правилне исхране -  индивидуала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рој оброка -5 - не преобилн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“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Не треба да узима храну за двоје 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раст калоријског уноса у другој половини трудноће за 300 kc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раст калоријског уноса у лактацији 500 k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ЗНАЧАЈ ПРАВИЛНЕ ИСХРАНЕ ТРУДНИЦ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а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раст плод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 његов разво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напређење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здравља мај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гућава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успостављање лакта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мањује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ризик за појаву компликациј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тојећеих оболе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ебан значај се придаје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првим данима  и последњем триместру трудноћ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отребе за течности у трудноћ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99680" y="1600200"/>
            <a:ext cx="81867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имални дневни унос воде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је 8 чаш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 у току лета и високих температура и виш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 саветују се зашећерени воћни сокови , газирана пића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Недовољан унос воде код трудниц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оводи до несвестице, мишићне слабости, осећаја узнемирености, слаб је промет штетних материја фетуса, смањена је количина плодове в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Дехидрација понекад може изазвати превремене трудове и порођа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РЕПОРУКЕ О ИСХРАНИ ТРУДНИЦ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овећати калоријски унос  за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200-300 Kcal/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дневн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Препоручује се унос до пола литра млека дневн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Све облике припреме поврћа, пресно и кувано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Воће свеж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Ферментисани млечни производ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Мед бољи од шећер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0000"/>
                </a:solidFill>
                <a:latin typeface="Calibri"/>
              </a:rPr>
              <a:t>Омега масне киселине – квалитетна масноћ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Риба се нарочито препоручује, морска или сардин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Месо , посније , вегетаријанци узимају суплемент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Кафа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2-3 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шољице </a:t>
            </a:r>
            <a:r>
              <a:rPr b="0" lang="hr-HR" sz="2600" spc="-1" strike="noStrike">
                <a:solidFill>
                  <a:srgbClr val="000000"/>
                </a:solidFill>
                <a:latin typeface="Calibri"/>
              </a:rPr>
              <a:t> 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РЕПОРУКЕ О ИСХРАНИ ТРУДНИЦ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авилан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распоре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обро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3 главн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брока и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2 ужин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 саветује се више од 2 парчета хлеба у току оброк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За десерт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зети воћ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другој половини трудноће унос млека се повећава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до 1 литар дневн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авилан режим живо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2391840"/>
            <a:ext cx="8147160" cy="21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ан је изузетно важан , ранији одлазак на спавање  мин 8 сати спавањ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Не досољавати хра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ушење је изричито забрањено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aлоријски унос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887120"/>
            <a:ext cx="8229600" cy="45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0000"/>
                </a:solidFill>
                <a:latin typeface="Calibri"/>
              </a:rPr>
              <a:t>2100 Kc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ко је калоријски унос неадекватан, протеини се користе као енергетски извор , рађају се деца мале ТМ &lt;2500g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требни су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протеини животињског порекл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бог  оптималног аминокиселинског садржај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Протеи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60 g/dan (10-16 gr више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Ма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а полинезасићеним масним киселина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гљени хидрати ( хлеб, теста умерено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2T08:54:36Z</dcterms:created>
  <dc:creator>Jasmina Knezevic</dc:creator>
  <dc:description/>
  <dc:language>en-US</dc:language>
  <cp:lastModifiedBy>Windows User</cp:lastModifiedBy>
  <dcterms:modified xsi:type="dcterms:W3CDTF">2020-05-04T09:12:34Z</dcterms:modified>
  <cp:revision>50</cp:revision>
  <dc:subject/>
  <dc:title>Ishrana u trudnoći i laktaciji</dc:title>
</cp:coreProperties>
</file>